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CA8-C677-4985-9977-EDE4B5B4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AED-BCDF-421B-B1D9-AF5FEBA6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419-97C3-4381-AD26-29D86BCC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80B-C6E6-47A8-AC1C-BA5D1E0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05F-2013-4F57-A579-DB09BCB3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524-9187-4A14-8C14-67C13E6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D8D-CCE2-4876-80C1-D33AECF3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5F4-0A49-40F7-8552-5617803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880" y="0"/>
            <a:ext cx="582912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07C-BFC2-42BB-88B5-5FDF7A6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42D-A61C-458C-B569-FBC6D9E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1EA-C610-4B7D-BA72-D051BBF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171-1011-49A4-B4D6-3D10D14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D7F-7E0A-4EB3-BBF9-C010ED07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68580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gram Construction 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23920"/>
            <a:ext cx="68580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 There are three sheets for each puzzle.  Each puzzle uses one tangram set (7 pieces) and has space for 10 problems the student must sol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)  Print 1 set of sheets for the puzzle you w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)  Use the worksheet to create problems and ans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You do not need answers for problems with sh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ose questions are not part of completed pu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will need to be solved by the students to 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The ‘Red Herring’ column is for creating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ng answers that can be added to unused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pu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)  Copy problems and answers to blank tan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Use mapping key to transfer Q &amp;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ransfer shaded answers from workshe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)  Add red herring answers to blank tan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)  Make a copy, cut a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95360" y="857160"/>
          <a:ext cx="5943600" cy="607716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66440" y="76392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Mask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933800" y="7410600"/>
            <a:ext cx="1261800" cy="1063440"/>
            <a:chOff x="4933800" y="7410600"/>
            <a:chExt cx="1261800" cy="1063440"/>
          </a:xfrm>
        </p:grpSpPr>
        <p:sp>
          <p:nvSpPr>
            <p:cNvPr id="228" name=""/>
            <p:cNvSpPr/>
            <p:nvPr/>
          </p:nvSpPr>
          <p:spPr>
            <a:xfrm rot="10800000">
              <a:off x="5277240" y="802296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3800" y="741060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5583240" y="741096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5887440" y="802404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700000">
              <a:off x="4960800" y="8072280"/>
              <a:ext cx="617760" cy="214560"/>
            </a:xfrm>
            <a:prstGeom prst="parallelogram">
              <a:avLst>
                <a:gd name="adj" fmla="val 9658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2880" y="8023320"/>
              <a:ext cx="29592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8900000">
              <a:off x="5353920" y="7507440"/>
              <a:ext cx="42948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025880" y="64184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Wars Fighter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034960" y="7678440"/>
            <a:ext cx="1461240" cy="903600"/>
            <a:chOff x="5034960" y="7678440"/>
            <a:chExt cx="1461240" cy="903600"/>
          </a:xfrm>
        </p:grpSpPr>
        <p:sp>
          <p:nvSpPr>
            <p:cNvPr id="239" name=""/>
            <p:cNvSpPr/>
            <p:nvPr/>
          </p:nvSpPr>
          <p:spPr>
            <a:xfrm rot="8100000">
              <a:off x="5606640" y="8179200"/>
              <a:ext cx="618840" cy="215280"/>
            </a:xfrm>
            <a:prstGeom prst="parallelogram">
              <a:avLst>
                <a:gd name="adj" fmla="val 9643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3500000">
              <a:off x="575532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700000">
              <a:off x="516204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68400" y="7985520"/>
              <a:ext cx="296280" cy="29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5464080" y="7684200"/>
              <a:ext cx="3038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000">
              <a:off x="5468040" y="8276400"/>
              <a:ext cx="3034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3500000">
              <a:off x="5549040" y="7767720"/>
              <a:ext cx="430560" cy="430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247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78240" y="348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232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4640" y="605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49240" y="45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3280" y="583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1920" y="424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4120" y="83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20640" y="31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64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Wars Fighter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584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87520" y="354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5840" y="167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35320" y="6135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77680" y="47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92240" y="582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7640" y="468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1120" y="60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034960" y="7678440"/>
            <a:ext cx="1461240" cy="903600"/>
            <a:chOff x="5034960" y="7678440"/>
            <a:chExt cx="1461240" cy="903600"/>
          </a:xfrm>
        </p:grpSpPr>
        <p:sp>
          <p:nvSpPr>
            <p:cNvPr id="279" name=""/>
            <p:cNvSpPr/>
            <p:nvPr/>
          </p:nvSpPr>
          <p:spPr>
            <a:xfrm rot="8100000">
              <a:off x="5606640" y="8179200"/>
              <a:ext cx="618840" cy="215280"/>
            </a:xfrm>
            <a:prstGeom prst="parallelogram">
              <a:avLst>
                <a:gd name="adj" fmla="val 9643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3500000">
              <a:off x="575532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700000">
              <a:off x="516204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68400" y="7985520"/>
              <a:ext cx="296280" cy="29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5464080" y="7684200"/>
              <a:ext cx="3038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5468040" y="8276400"/>
              <a:ext cx="3034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3500000">
              <a:off x="5549040" y="7767720"/>
              <a:ext cx="430560" cy="430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345200" y="209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38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652320" y="7658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64962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Wars Fighter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920840" y="7545240"/>
            <a:ext cx="1460880" cy="903240"/>
            <a:chOff x="4920840" y="7545240"/>
            <a:chExt cx="1460880" cy="903240"/>
          </a:xfrm>
        </p:grpSpPr>
        <p:sp>
          <p:nvSpPr>
            <p:cNvPr id="292" name=""/>
            <p:cNvSpPr/>
            <p:nvPr/>
          </p:nvSpPr>
          <p:spPr>
            <a:xfrm rot="8100000">
              <a:off x="5492520" y="8045640"/>
              <a:ext cx="618480" cy="215280"/>
            </a:xfrm>
            <a:prstGeom prst="parallelogram">
              <a:avLst>
                <a:gd name="adj" fmla="val 9637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500000">
              <a:off x="5640840" y="76942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700000">
              <a:off x="5047920" y="76942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3920" y="7852320"/>
              <a:ext cx="296280" cy="29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5349600" y="7551360"/>
              <a:ext cx="303840" cy="301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800000">
              <a:off x="5353560" y="8143200"/>
              <a:ext cx="3034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500000">
              <a:off x="5434920" y="7634520"/>
              <a:ext cx="430560" cy="430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968640" y="613260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1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737240" y="7405200"/>
            <a:ext cx="1731240" cy="1360440"/>
            <a:chOff x="4737240" y="7405200"/>
            <a:chExt cx="1731240" cy="1360440"/>
          </a:xfrm>
        </p:grpSpPr>
        <p:sp>
          <p:nvSpPr>
            <p:cNvPr id="303" name=""/>
            <p:cNvSpPr/>
            <p:nvPr/>
          </p:nvSpPr>
          <p:spPr>
            <a:xfrm rot="13500000">
              <a:off x="4799160" y="746784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100000">
              <a:off x="5866560" y="8364600"/>
              <a:ext cx="615960" cy="214560"/>
            </a:xfrm>
            <a:prstGeom prst="parallelogram">
              <a:avLst>
                <a:gd name="adj" fmla="val 9630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3500000">
              <a:off x="5104800" y="7982640"/>
              <a:ext cx="6120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700000">
              <a:off x="5025600" y="7704000"/>
              <a:ext cx="29556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700000">
              <a:off x="5237280" y="746856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5409720" y="8134920"/>
              <a:ext cx="61164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700000">
              <a:off x="5180760" y="7944840"/>
              <a:ext cx="42948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311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3492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5160" y="213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82560" y="539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2360" y="45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35120" y="581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20640" y="422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864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1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840" y="444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0440" y="245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25760" y="83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320" y="4897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4400" y="609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7640" y="579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737240" y="7405200"/>
            <a:ext cx="1731240" cy="1360440"/>
            <a:chOff x="4737240" y="7405200"/>
            <a:chExt cx="1731240" cy="1360440"/>
          </a:xfrm>
        </p:grpSpPr>
        <p:sp>
          <p:nvSpPr>
            <p:cNvPr id="339" name=""/>
            <p:cNvSpPr/>
            <p:nvPr/>
          </p:nvSpPr>
          <p:spPr>
            <a:xfrm rot="13500000">
              <a:off x="4799160" y="746784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8100000">
              <a:off x="5866560" y="8364600"/>
              <a:ext cx="615960" cy="214560"/>
            </a:xfrm>
            <a:prstGeom prst="parallelogram">
              <a:avLst>
                <a:gd name="adj" fmla="val 9630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3500000">
              <a:off x="5104800" y="7982640"/>
              <a:ext cx="6120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700000">
              <a:off x="5025600" y="7704000"/>
              <a:ext cx="29556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700000">
              <a:off x="5237280" y="746856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5409720" y="8134920"/>
              <a:ext cx="61164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700000">
              <a:off x="5180760" y="7944840"/>
              <a:ext cx="42948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35280" y="207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6560" y="83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78240" y="5105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680" y="2324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880920" y="750564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1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737240" y="7405200"/>
            <a:ext cx="1731240" cy="1360440"/>
            <a:chOff x="4737240" y="7405200"/>
            <a:chExt cx="1731240" cy="1360440"/>
          </a:xfrm>
        </p:grpSpPr>
        <p:sp>
          <p:nvSpPr>
            <p:cNvPr id="354" name=""/>
            <p:cNvSpPr/>
            <p:nvPr/>
          </p:nvSpPr>
          <p:spPr>
            <a:xfrm rot="13500000">
              <a:off x="4799160" y="746784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8100000">
              <a:off x="5866560" y="8364600"/>
              <a:ext cx="615960" cy="214560"/>
            </a:xfrm>
            <a:prstGeom prst="parallelogram">
              <a:avLst>
                <a:gd name="adj" fmla="val 9630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3500000">
              <a:off x="5104800" y="7982640"/>
              <a:ext cx="6120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700000">
              <a:off x="5025600" y="7704000"/>
              <a:ext cx="29556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700000">
              <a:off x="5237280" y="746856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409720" y="8134920"/>
              <a:ext cx="61164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700000">
              <a:off x="5180760" y="7944840"/>
              <a:ext cx="42948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30840" y="50468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749840" y="7530840"/>
            <a:ext cx="1761840" cy="1222200"/>
            <a:chOff x="4749840" y="7530840"/>
            <a:chExt cx="1761840" cy="1222200"/>
          </a:xfrm>
        </p:grpSpPr>
        <p:sp>
          <p:nvSpPr>
            <p:cNvPr id="365" name=""/>
            <p:cNvSpPr/>
            <p:nvPr/>
          </p:nvSpPr>
          <p:spPr>
            <a:xfrm rot="8100000">
              <a:off x="5677560" y="838836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560" y="7834680"/>
              <a:ext cx="29556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8900000">
              <a:off x="5773320" y="7814520"/>
              <a:ext cx="61128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8100000">
              <a:off x="4971960" y="7619760"/>
              <a:ext cx="42912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1280" y="8331120"/>
              <a:ext cx="617040" cy="214560"/>
            </a:xfrm>
            <a:prstGeom prst="parallelogram">
              <a:avLst>
                <a:gd name="adj" fmla="val 964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8100000">
              <a:off x="5486760" y="817812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900000">
              <a:off x="4876560" y="7814520"/>
              <a:ext cx="61164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373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173480" y="304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5880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02320" y="162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44800" y="653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02000" y="131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236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63480" y="539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30400" y="2685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864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16040" y="4135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5840" y="41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1648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06240" y="419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1164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1632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49480" y="466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54000" y="1695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749840" y="7530840"/>
            <a:ext cx="1761840" cy="1222200"/>
            <a:chOff x="4749840" y="7530840"/>
            <a:chExt cx="1761840" cy="1222200"/>
          </a:xfrm>
        </p:grpSpPr>
        <p:sp>
          <p:nvSpPr>
            <p:cNvPr id="405" name=""/>
            <p:cNvSpPr/>
            <p:nvPr/>
          </p:nvSpPr>
          <p:spPr>
            <a:xfrm rot="8100000">
              <a:off x="5677560" y="838836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29560" y="7834680"/>
              <a:ext cx="29556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8900000">
              <a:off x="5773320" y="7814520"/>
              <a:ext cx="61128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8100000">
              <a:off x="4971960" y="7619760"/>
              <a:ext cx="42912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01280" y="8331120"/>
              <a:ext cx="617040" cy="214560"/>
            </a:xfrm>
            <a:prstGeom prst="parallelogram">
              <a:avLst>
                <a:gd name="adj" fmla="val 964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8100000">
              <a:off x="5486760" y="817812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8900000">
              <a:off x="4876560" y="7814520"/>
              <a:ext cx="61164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002280" y="24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44760" y="651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880920" y="78105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749840" y="7530840"/>
            <a:ext cx="1761840" cy="1222200"/>
            <a:chOff x="4749840" y="7530840"/>
            <a:chExt cx="1761840" cy="1222200"/>
          </a:xfrm>
        </p:grpSpPr>
        <p:sp>
          <p:nvSpPr>
            <p:cNvPr id="418" name=""/>
            <p:cNvSpPr/>
            <p:nvPr/>
          </p:nvSpPr>
          <p:spPr>
            <a:xfrm rot="8100000">
              <a:off x="5677560" y="838836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29560" y="7834680"/>
              <a:ext cx="29556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900000">
              <a:off x="5773320" y="7814520"/>
              <a:ext cx="61128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8100000">
              <a:off x="4971960" y="7619760"/>
              <a:ext cx="42912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1280" y="8331120"/>
              <a:ext cx="617040" cy="214560"/>
            </a:xfrm>
            <a:prstGeom prst="parallelogram">
              <a:avLst>
                <a:gd name="adj" fmla="val 964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8100000">
              <a:off x="5486760" y="817812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8900000">
              <a:off x="4876560" y="7814520"/>
              <a:ext cx="61164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949920" y="615168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44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31760" y="7066800"/>
            <a:ext cx="1908000" cy="2261880"/>
            <a:chOff x="4631760" y="7066800"/>
            <a:chExt cx="1908000" cy="2261880"/>
          </a:xfrm>
        </p:grpSpPr>
        <p:sp>
          <p:nvSpPr>
            <p:cNvPr id="57" name=""/>
            <p:cNvSpPr/>
            <p:nvPr/>
          </p:nvSpPr>
          <p:spPr>
            <a:xfrm rot="2700000">
              <a:off x="5054760" y="7810920"/>
              <a:ext cx="434520" cy="424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8100000">
              <a:off x="5980320" y="7480080"/>
              <a:ext cx="443160" cy="4424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700000">
              <a:off x="4722120" y="7480800"/>
              <a:ext cx="444960" cy="440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900000">
              <a:off x="5457240" y="725148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8100000">
              <a:off x="5135040" y="824400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4952880" y="7387200"/>
              <a:ext cx="630720" cy="628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86600" y="7386120"/>
              <a:ext cx="903960" cy="315360"/>
            </a:xfrm>
            <a:prstGeom prst="parallelogram">
              <a:avLst>
                <a:gd name="adj" fmla="val 961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4600" y="7467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m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029200" y="7195320"/>
            <a:ext cx="1168200" cy="1461240"/>
            <a:chOff x="5029200" y="7195320"/>
            <a:chExt cx="1168200" cy="1461240"/>
          </a:xfrm>
        </p:grpSpPr>
        <p:sp>
          <p:nvSpPr>
            <p:cNvPr id="429" name=""/>
            <p:cNvSpPr/>
            <p:nvPr/>
          </p:nvSpPr>
          <p:spPr>
            <a:xfrm rot="18900000">
              <a:off x="5318640" y="725796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33880" y="8049240"/>
              <a:ext cx="294480" cy="29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5029200" y="834012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28000" y="8044560"/>
              <a:ext cx="60984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5251680" y="7406280"/>
              <a:ext cx="429120" cy="427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036040" y="7832160"/>
              <a:ext cx="649800" cy="215640"/>
            </a:xfrm>
            <a:prstGeom prst="parallelogram">
              <a:avLst>
                <a:gd name="adj" fmla="val 998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5460840" y="7742520"/>
              <a:ext cx="60948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437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706480" y="3011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1840" y="514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3484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7960" y="244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1840" y="14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78080" y="56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83000" y="287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3020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0480" y="77979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7328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0920" y="213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6920" y="442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15800" y="66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6240" y="4478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8300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06920" y="5848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1180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029200" y="7195320"/>
            <a:ext cx="1168200" cy="1461240"/>
            <a:chOff x="5029200" y="7195320"/>
            <a:chExt cx="1168200" cy="1461240"/>
          </a:xfrm>
        </p:grpSpPr>
        <p:sp>
          <p:nvSpPr>
            <p:cNvPr id="469" name=""/>
            <p:cNvSpPr/>
            <p:nvPr/>
          </p:nvSpPr>
          <p:spPr>
            <a:xfrm rot="18900000">
              <a:off x="5318640" y="725796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3880" y="8049240"/>
              <a:ext cx="294480" cy="29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0800000">
              <a:off x="5029200" y="834012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8000" y="8044560"/>
              <a:ext cx="60984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6200000">
              <a:off x="5251680" y="7406280"/>
              <a:ext cx="429120" cy="427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5036040" y="7832160"/>
              <a:ext cx="649800" cy="215640"/>
            </a:xfrm>
            <a:prstGeom prst="parallelogram">
              <a:avLst>
                <a:gd name="adj" fmla="val 998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8900000">
              <a:off x="5460840" y="7742520"/>
              <a:ext cx="60948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497120" y="68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8360" y="4745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690480" y="7772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029200" y="7195320"/>
            <a:ext cx="1168200" cy="1461240"/>
            <a:chOff x="5029200" y="7195320"/>
            <a:chExt cx="1168200" cy="1461240"/>
          </a:xfrm>
        </p:grpSpPr>
        <p:sp>
          <p:nvSpPr>
            <p:cNvPr id="482" name=""/>
            <p:cNvSpPr/>
            <p:nvPr/>
          </p:nvSpPr>
          <p:spPr>
            <a:xfrm rot="18900000">
              <a:off x="5318640" y="725796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33880" y="8049240"/>
              <a:ext cx="294480" cy="29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0800000">
              <a:off x="5029200" y="834012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28000" y="8044560"/>
              <a:ext cx="60984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6200000">
              <a:off x="5251680" y="7406280"/>
              <a:ext cx="429120" cy="427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5036040" y="7832160"/>
              <a:ext cx="649800" cy="215640"/>
            </a:xfrm>
            <a:prstGeom prst="parallelogram">
              <a:avLst>
                <a:gd name="adj" fmla="val 998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8900000">
              <a:off x="5460840" y="7742520"/>
              <a:ext cx="60948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025880" y="615168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le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355280" y="7613640"/>
            <a:ext cx="2052720" cy="1083960"/>
            <a:chOff x="4355280" y="7613640"/>
            <a:chExt cx="2052720" cy="1083960"/>
          </a:xfrm>
        </p:grpSpPr>
        <p:sp>
          <p:nvSpPr>
            <p:cNvPr id="493" name=""/>
            <p:cNvSpPr/>
            <p:nvPr/>
          </p:nvSpPr>
          <p:spPr>
            <a:xfrm rot="9420000">
              <a:off x="5223960" y="833940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6720000">
              <a:off x="5913360" y="8118000"/>
              <a:ext cx="43056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020000">
              <a:off x="5499360" y="8225640"/>
              <a:ext cx="29664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2120000">
              <a:off x="4813920" y="834948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9420000">
              <a:off x="4451040" y="7952040"/>
              <a:ext cx="610560" cy="6148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 rot="17520000">
              <a:off x="5538240" y="8010720"/>
              <a:ext cx="654120" cy="215280"/>
            </a:xfrm>
            <a:prstGeom prst="parallelogram">
              <a:avLst>
                <a:gd name="adj" fmla="val 1006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220000">
              <a:off x="5016240" y="7708320"/>
              <a:ext cx="61056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501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173320" y="1868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68400" y="68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7120" y="421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87800" y="565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77840" y="4344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92080" y="634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5432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82600" y="3943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000" y="2228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8160" y="77025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le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7680" y="219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26040" y="2192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87400" y="299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83000" y="590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453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02320" y="594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39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6240" y="56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355280" y="7613640"/>
            <a:ext cx="2052720" cy="1083960"/>
            <a:chOff x="4355280" y="7613640"/>
            <a:chExt cx="2052720" cy="1083960"/>
          </a:xfrm>
        </p:grpSpPr>
        <p:sp>
          <p:nvSpPr>
            <p:cNvPr id="534" name=""/>
            <p:cNvSpPr/>
            <p:nvPr/>
          </p:nvSpPr>
          <p:spPr>
            <a:xfrm rot="9420000">
              <a:off x="5223960" y="833940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6720000">
              <a:off x="5913360" y="8118000"/>
              <a:ext cx="43056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4020000">
              <a:off x="5499360" y="8225640"/>
              <a:ext cx="29664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2120000">
              <a:off x="4813920" y="834948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9420000">
              <a:off x="4451040" y="7952040"/>
              <a:ext cx="610560" cy="6148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17520000">
              <a:off x="5538240" y="8010720"/>
              <a:ext cx="654120" cy="215280"/>
            </a:xfrm>
            <a:prstGeom prst="parallelogram">
              <a:avLst>
                <a:gd name="adj" fmla="val 1006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220000">
              <a:off x="5016240" y="7708320"/>
              <a:ext cx="61056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72828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le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355280" y="7613640"/>
            <a:ext cx="2052720" cy="1083960"/>
            <a:chOff x="4355280" y="7613640"/>
            <a:chExt cx="2052720" cy="1083960"/>
          </a:xfrm>
        </p:grpSpPr>
        <p:sp>
          <p:nvSpPr>
            <p:cNvPr id="545" name=""/>
            <p:cNvSpPr/>
            <p:nvPr/>
          </p:nvSpPr>
          <p:spPr>
            <a:xfrm rot="9420000">
              <a:off x="5223960" y="833940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6720000">
              <a:off x="5913360" y="8118000"/>
              <a:ext cx="43056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4020000">
              <a:off x="5499360" y="8225640"/>
              <a:ext cx="29664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2120000">
              <a:off x="4813920" y="834948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9420000">
              <a:off x="4451040" y="7952040"/>
              <a:ext cx="610560" cy="6148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 rot="17520000">
              <a:off x="5538240" y="8010720"/>
              <a:ext cx="654120" cy="215280"/>
            </a:xfrm>
            <a:prstGeom prst="parallelogram">
              <a:avLst>
                <a:gd name="adj" fmla="val 1006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220000">
              <a:off x="5016240" y="7708320"/>
              <a:ext cx="61056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987720" y="559908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et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086440" y="7359120"/>
            <a:ext cx="1202760" cy="1369080"/>
            <a:chOff x="5086440" y="7359120"/>
            <a:chExt cx="1202760" cy="1369080"/>
          </a:xfrm>
        </p:grpSpPr>
        <p:sp>
          <p:nvSpPr>
            <p:cNvPr id="556" name=""/>
            <p:cNvSpPr/>
            <p:nvPr/>
          </p:nvSpPr>
          <p:spPr>
            <a:xfrm rot="5400000">
              <a:off x="5372280" y="765684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91000" y="826668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81520" y="8266680"/>
              <a:ext cx="302400" cy="3002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6200000">
              <a:off x="5085720" y="8257680"/>
              <a:ext cx="30204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6200000">
              <a:off x="5372280" y="765648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8100000">
              <a:off x="5462280" y="7447680"/>
              <a:ext cx="428400" cy="428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 rot="13500000">
              <a:off x="5657760" y="8314560"/>
              <a:ext cx="650160" cy="215280"/>
            </a:xfrm>
            <a:prstGeom prst="parallelogram">
              <a:avLst>
                <a:gd name="adj" fmla="val 10005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564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773000" y="527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30880" y="329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06240" y="123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0168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49240" y="299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34840" y="321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9080" y="5238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68760" y="590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78040" y="411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8640" y="7664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et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0680" y="179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26040" y="2192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11360" y="68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59000" y="449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6000" y="263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77840" y="442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11560" y="638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2084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086440" y="7359120"/>
            <a:ext cx="1202760" cy="1369080"/>
            <a:chOff x="5086440" y="7359120"/>
            <a:chExt cx="1202760" cy="1369080"/>
          </a:xfrm>
        </p:grpSpPr>
        <p:sp>
          <p:nvSpPr>
            <p:cNvPr id="597" name=""/>
            <p:cNvSpPr/>
            <p:nvPr/>
          </p:nvSpPr>
          <p:spPr>
            <a:xfrm rot="5400000">
              <a:off x="5372280" y="765684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91000" y="826668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81520" y="8266680"/>
              <a:ext cx="302400" cy="3002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5085720" y="8257680"/>
              <a:ext cx="30204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6200000">
              <a:off x="5372280" y="765648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8100000">
              <a:off x="5462280" y="7447680"/>
              <a:ext cx="428400" cy="428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 rot="13500000">
              <a:off x="5657760" y="8314560"/>
              <a:ext cx="650160" cy="215280"/>
            </a:xfrm>
            <a:prstGeom prst="parallelogram">
              <a:avLst>
                <a:gd name="adj" fmla="val 10005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861840" y="77151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et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86440" y="7359120"/>
            <a:ext cx="1202760" cy="1369080"/>
            <a:chOff x="5086440" y="7359120"/>
            <a:chExt cx="1202760" cy="1369080"/>
          </a:xfrm>
        </p:grpSpPr>
        <p:sp>
          <p:nvSpPr>
            <p:cNvPr id="608" name=""/>
            <p:cNvSpPr/>
            <p:nvPr/>
          </p:nvSpPr>
          <p:spPr>
            <a:xfrm rot="5400000">
              <a:off x="5372280" y="765684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1000" y="826668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81520" y="8266680"/>
              <a:ext cx="302400" cy="3002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5085720" y="8257680"/>
              <a:ext cx="30204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5372280" y="765648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8100000">
              <a:off x="5462280" y="7447680"/>
              <a:ext cx="428400" cy="428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 rot="13500000">
              <a:off x="5657760" y="8314560"/>
              <a:ext cx="650160" cy="215280"/>
            </a:xfrm>
            <a:prstGeom prst="parallelogram">
              <a:avLst>
                <a:gd name="adj" fmla="val 10005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949920" y="563076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n and Silo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004000" y="7385760"/>
            <a:ext cx="1075680" cy="1159560"/>
            <a:chOff x="5004000" y="7385760"/>
            <a:chExt cx="1075680" cy="1159560"/>
          </a:xfrm>
        </p:grpSpPr>
        <p:sp>
          <p:nvSpPr>
            <p:cNvPr id="619" name=""/>
            <p:cNvSpPr/>
            <p:nvPr/>
          </p:nvSpPr>
          <p:spPr>
            <a:xfrm rot="8100000">
              <a:off x="5066640" y="7959960"/>
              <a:ext cx="3020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920" y="7596720"/>
              <a:ext cx="294840" cy="29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10120" y="8109000"/>
              <a:ext cx="428040" cy="4309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5436000" y="7932960"/>
              <a:ext cx="613800" cy="6105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5429520" y="7886160"/>
              <a:ext cx="649800" cy="216360"/>
            </a:xfrm>
            <a:prstGeom prst="parallelogram">
              <a:avLst>
                <a:gd name="adj" fmla="val 9949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8900000">
              <a:off x="5132880" y="7801200"/>
              <a:ext cx="60984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8100000">
              <a:off x="5709240" y="7448040"/>
              <a:ext cx="3016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627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31760" y="7066800"/>
            <a:ext cx="1908000" cy="2261880"/>
            <a:chOff x="4631760" y="7066800"/>
            <a:chExt cx="1908000" cy="2261880"/>
          </a:xfrm>
        </p:grpSpPr>
        <p:sp>
          <p:nvSpPr>
            <p:cNvPr id="68" name=""/>
            <p:cNvSpPr/>
            <p:nvPr/>
          </p:nvSpPr>
          <p:spPr>
            <a:xfrm rot="2700000">
              <a:off x="5054760" y="7810920"/>
              <a:ext cx="434520" cy="424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8100000">
              <a:off x="5980320" y="7480080"/>
              <a:ext cx="443160" cy="4424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4722120" y="7480800"/>
              <a:ext cx="444960" cy="440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8900000">
              <a:off x="5457240" y="725148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100000">
              <a:off x="5135040" y="824400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4952880" y="7387200"/>
              <a:ext cx="630720" cy="628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6600" y="7386120"/>
              <a:ext cx="903960" cy="315360"/>
            </a:xfrm>
            <a:prstGeom prst="parallelogram">
              <a:avLst>
                <a:gd name="adj" fmla="val 961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25320" y="6478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5160" y="594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9520" y="464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5320" y="3430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5840" y="167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8520" y="76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20760" y="137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256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4640" y="274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2040" y="655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8320" y="449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9520" y="41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76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9720" y="31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0240" y="3430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7640" y="4573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11320" y="5869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8520" y="2973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4600" y="7467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m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4954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116080" y="337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82800" y="565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44440" y="400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1840" y="215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30640" y="636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87880" y="224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68360" y="19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6560" y="66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725720" y="1886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3680" y="77598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n and Silo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39800" y="6343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9920" y="449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73000" y="341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2960" y="66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11800" y="4973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30880" y="181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16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3064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004000" y="7385760"/>
            <a:ext cx="1075680" cy="1159560"/>
            <a:chOff x="5004000" y="7385760"/>
            <a:chExt cx="1075680" cy="1159560"/>
          </a:xfrm>
        </p:grpSpPr>
        <p:sp>
          <p:nvSpPr>
            <p:cNvPr id="660" name=""/>
            <p:cNvSpPr/>
            <p:nvPr/>
          </p:nvSpPr>
          <p:spPr>
            <a:xfrm rot="8100000">
              <a:off x="5066640" y="7959960"/>
              <a:ext cx="3020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13920" y="7596720"/>
              <a:ext cx="294840" cy="29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8109000"/>
              <a:ext cx="428040" cy="4309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5436000" y="7932960"/>
              <a:ext cx="613800" cy="6105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5429520" y="7886160"/>
              <a:ext cx="649800" cy="216360"/>
            </a:xfrm>
            <a:prstGeom prst="parallelogram">
              <a:avLst>
                <a:gd name="adj" fmla="val 9949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8900000">
              <a:off x="5132880" y="7801200"/>
              <a:ext cx="60984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8100000">
              <a:off x="5709240" y="7448040"/>
              <a:ext cx="3016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7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>
            <a:off x="1033200" y="78868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n and S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004000" y="7385760"/>
            <a:ext cx="1075680" cy="1159560"/>
            <a:chOff x="5004000" y="7385760"/>
            <a:chExt cx="1075680" cy="1159560"/>
          </a:xfrm>
        </p:grpSpPr>
        <p:sp>
          <p:nvSpPr>
            <p:cNvPr id="671" name=""/>
            <p:cNvSpPr/>
            <p:nvPr/>
          </p:nvSpPr>
          <p:spPr>
            <a:xfrm rot="8100000">
              <a:off x="5066640" y="7959960"/>
              <a:ext cx="3020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13920" y="7596720"/>
              <a:ext cx="294840" cy="29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0120" y="8109000"/>
              <a:ext cx="428040" cy="4309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5436000" y="7932960"/>
              <a:ext cx="613800" cy="6105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5429520" y="7886160"/>
              <a:ext cx="649800" cy="216360"/>
            </a:xfrm>
            <a:prstGeom prst="parallelogram">
              <a:avLst>
                <a:gd name="adj" fmla="val 9949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8900000">
              <a:off x="5132880" y="7801200"/>
              <a:ext cx="60984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8100000">
              <a:off x="5709240" y="7448040"/>
              <a:ext cx="3016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3911760" y="56372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6858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683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140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632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8720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9212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7300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5880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76372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7792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4460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3240" y="8502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25840" y="6800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140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632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8720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9212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300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5880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6372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7792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4460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25840" y="725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690480" y="77533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16360" y="735156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 rot="8100000">
            <a:off x="10515600" y="1447920"/>
            <a:ext cx="1209600" cy="12031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5400000">
            <a:off x="7083000" y="288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0800000">
            <a:off x="7924320" y="2133360"/>
            <a:ext cx="244332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5400000">
            <a:off x="6859080" y="2170080"/>
            <a:ext cx="244296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ork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8900000">
            <a:off x="10515240" y="-45720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3500000">
            <a:off x="9521280" y="52056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3500000">
            <a:off x="9145440" y="2588760"/>
            <a:ext cx="244296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2700000">
            <a:off x="12269880" y="2588760"/>
            <a:ext cx="2442960" cy="2446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-1600200" y="7620120"/>
            <a:ext cx="1181160" cy="116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5400000">
            <a:off x="-2571840" y="-36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571840" y="106668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2700000">
            <a:off x="-2981880" y="6791400"/>
            <a:ext cx="1181160" cy="1160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2700000">
            <a:off x="11503080" y="520560"/>
            <a:ext cx="1209600" cy="12031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86600" y="762120"/>
            <a:ext cx="1209600" cy="12031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8150040" y="76500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10800000">
            <a:off x="8152920" y="-360"/>
            <a:ext cx="120996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7812000" y="2855880"/>
            <a:ext cx="244296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13440" y="2819520"/>
            <a:ext cx="244332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8100000">
            <a:off x="10667520" y="4267080"/>
            <a:ext cx="2443320" cy="2446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-1714320" y="-36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-1714320" y="106668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700000">
            <a:off x="-857160" y="4114800"/>
            <a:ext cx="1714680" cy="17143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8900000">
            <a:off x="-1980720" y="2666520"/>
            <a:ext cx="171432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8100000">
            <a:off x="-1981080" y="5486040"/>
            <a:ext cx="171432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3500000">
            <a:off x="-3047400" y="432396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26120" y="5335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07360" y="3276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-1598760" y="990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1522440" y="67816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35720" y="6858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535960" y="685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-2360520" y="26668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917200" y="3276720"/>
            <a:ext cx="19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 rot="16200000">
            <a:off x="9059760" y="6604560"/>
            <a:ext cx="2603520" cy="862200"/>
          </a:xfrm>
          <a:prstGeom prst="parallelogram">
            <a:avLst>
              <a:gd name="adj" fmla="val 1000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7365960" y="5670720"/>
            <a:ext cx="2603520" cy="861840"/>
          </a:xfrm>
          <a:prstGeom prst="parallelogram">
            <a:avLst>
              <a:gd name="adj" fmla="val 10008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 rot="18900000">
            <a:off x="8020800" y="6469560"/>
            <a:ext cx="2603520" cy="862200"/>
          </a:xfrm>
          <a:prstGeom prst="parallelogram">
            <a:avLst>
              <a:gd name="adj" fmla="val 1000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 rot="13500000">
            <a:off x="9792000" y="5886000"/>
            <a:ext cx="2603520" cy="862200"/>
          </a:xfrm>
          <a:prstGeom prst="parallelogram">
            <a:avLst>
              <a:gd name="adj" fmla="val 1000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8900000">
            <a:off x="10779120" y="947520"/>
            <a:ext cx="244332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76280" y="914400"/>
          <a:ext cx="5943600" cy="6076800"/>
        </p:xfrm>
        <a:graphic>
          <a:graphicData uri="http://schemas.openxmlformats.org/drawingml/2006/table">
            <a:tbl>
              <a:tblPr/>
              <a:tblGrid>
                <a:gridCol w="876240"/>
                <a:gridCol w="156204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33240" y="7791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m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31760" y="7066800"/>
            <a:ext cx="1908000" cy="2261880"/>
            <a:chOff x="4631760" y="7066800"/>
            <a:chExt cx="1908000" cy="2261880"/>
          </a:xfrm>
        </p:grpSpPr>
        <p:sp>
          <p:nvSpPr>
            <p:cNvPr id="100" name=""/>
            <p:cNvSpPr/>
            <p:nvPr/>
          </p:nvSpPr>
          <p:spPr>
            <a:xfrm rot="2700000">
              <a:off x="5054760" y="7810920"/>
              <a:ext cx="434520" cy="424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8100000">
              <a:off x="5980320" y="7480080"/>
              <a:ext cx="443160" cy="4424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700000">
              <a:off x="4722120" y="7480800"/>
              <a:ext cx="444960" cy="440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900000">
              <a:off x="5457240" y="725148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8100000">
              <a:off x="5135040" y="824400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4952880" y="7387200"/>
              <a:ext cx="630720" cy="628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86600" y="7386120"/>
              <a:ext cx="903960" cy="315360"/>
            </a:xfrm>
            <a:prstGeom prst="parallelogram">
              <a:avLst>
                <a:gd name="adj" fmla="val 961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49920" y="64562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019840" y="7504200"/>
            <a:ext cx="1517400" cy="1221480"/>
            <a:chOff x="5019840" y="7504200"/>
            <a:chExt cx="1517400" cy="1221480"/>
          </a:xfrm>
        </p:grpSpPr>
        <p:sp>
          <p:nvSpPr>
            <p:cNvPr id="111" name=""/>
            <p:cNvSpPr/>
            <p:nvPr/>
          </p:nvSpPr>
          <p:spPr>
            <a:xfrm rot="2700000">
              <a:off x="5989680" y="79650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5019840" y="750420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5926320" y="750384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3500000">
              <a:off x="5268240" y="79632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700000">
              <a:off x="5603040" y="8165520"/>
              <a:ext cx="657720" cy="214200"/>
            </a:xfrm>
            <a:prstGeom prst="parallelogram">
              <a:avLst>
                <a:gd name="adj" fmla="val 1030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0400" y="750420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100000">
              <a:off x="5414760" y="8208720"/>
              <a:ext cx="42840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119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04960" y="274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6240" y="436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824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6240" y="318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240" y="5411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320" y="81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1200" y="6534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800" y="7658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04960" y="4552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8560" y="579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648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256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3240" y="215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6520" y="302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6520" y="4243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019840" y="7504200"/>
            <a:ext cx="1517400" cy="1221480"/>
            <a:chOff x="5019840" y="7504200"/>
            <a:chExt cx="1517400" cy="1221480"/>
          </a:xfrm>
        </p:grpSpPr>
        <p:sp>
          <p:nvSpPr>
            <p:cNvPr id="149" name=""/>
            <p:cNvSpPr/>
            <p:nvPr/>
          </p:nvSpPr>
          <p:spPr>
            <a:xfrm rot="2700000">
              <a:off x="5989680" y="79650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5019840" y="750420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926320" y="750384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5268240" y="79632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700000">
              <a:off x="5603040" y="8165520"/>
              <a:ext cx="657720" cy="214200"/>
            </a:xfrm>
            <a:prstGeom prst="parallelogram">
              <a:avLst>
                <a:gd name="adj" fmla="val 1030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0400" y="750420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100000">
              <a:off x="5414760" y="8208720"/>
              <a:ext cx="42840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07824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83000" y="81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0200" y="2343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571680" y="72396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499680" y="7448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81680" y="7477200"/>
            <a:ext cx="1517400" cy="1221480"/>
            <a:chOff x="4981680" y="7477200"/>
            <a:chExt cx="1517400" cy="1221480"/>
          </a:xfrm>
        </p:grpSpPr>
        <p:sp>
          <p:nvSpPr>
            <p:cNvPr id="163" name=""/>
            <p:cNvSpPr/>
            <p:nvPr/>
          </p:nvSpPr>
          <p:spPr>
            <a:xfrm rot="2700000">
              <a:off x="5951520" y="79380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4981680" y="747720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5888160" y="747684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3500000">
              <a:off x="5230080" y="79362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700000">
              <a:off x="5564880" y="8138520"/>
              <a:ext cx="657720" cy="214200"/>
            </a:xfrm>
            <a:prstGeom prst="parallelogram">
              <a:avLst>
                <a:gd name="adj" fmla="val 1030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2240" y="747720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8100000">
              <a:off x="5376600" y="8181720"/>
              <a:ext cx="42840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064040" y="51800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Mask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7696080"/>
            <a:ext cx="1261800" cy="1063440"/>
            <a:chOff x="5105520" y="7696080"/>
            <a:chExt cx="1261800" cy="1063440"/>
          </a:xfrm>
        </p:grpSpPr>
        <p:sp>
          <p:nvSpPr>
            <p:cNvPr id="174" name=""/>
            <p:cNvSpPr/>
            <p:nvPr/>
          </p:nvSpPr>
          <p:spPr>
            <a:xfrm rot="10800000">
              <a:off x="5448960" y="830880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7696080"/>
              <a:ext cx="612000" cy="6130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5754600" y="7696080"/>
              <a:ext cx="61236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6058440" y="830988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700000">
              <a:off x="5132520" y="8357760"/>
              <a:ext cx="617760" cy="214560"/>
            </a:xfrm>
            <a:prstGeom prst="parallelogram">
              <a:avLst>
                <a:gd name="adj" fmla="val 9658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54600" y="8309160"/>
              <a:ext cx="29592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900000">
              <a:off x="5525280" y="7792920"/>
              <a:ext cx="42948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182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63240" y="535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20720" y="653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2064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68560" y="45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77880" y="31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320" y="346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125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97400" y="605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30400" y="27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6800" y="7772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Mask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63880" y="863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7320" y="192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78080" y="318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26000" y="163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06720" y="581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6640" y="65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3480" y="603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8320" y="4533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8600" y="1600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124600" y="7543800"/>
            <a:ext cx="1261800" cy="1063440"/>
            <a:chOff x="5124600" y="7543800"/>
            <a:chExt cx="1261800" cy="1063440"/>
          </a:xfrm>
        </p:grpSpPr>
        <p:sp>
          <p:nvSpPr>
            <p:cNvPr id="216" name=""/>
            <p:cNvSpPr/>
            <p:nvPr/>
          </p:nvSpPr>
          <p:spPr>
            <a:xfrm rot="10800000">
              <a:off x="5468040" y="815616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24600" y="754380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5774040" y="754416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6077880" y="815724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700000">
              <a:off x="5151600" y="8205480"/>
              <a:ext cx="617760" cy="214560"/>
            </a:xfrm>
            <a:prstGeom prst="parallelogram">
              <a:avLst>
                <a:gd name="adj" fmla="val 9658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3680" y="8156520"/>
              <a:ext cx="29592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5544360" y="7640640"/>
              <a:ext cx="42948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773360" y="82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23:06:09Z</dcterms:created>
  <dc:creator>WCPSS</dc:creator>
  <dc:description/>
  <dc:language>en-US</dc:language>
  <cp:lastModifiedBy>WCPSS</cp:lastModifiedBy>
  <dcterms:modified xsi:type="dcterms:W3CDTF">2003-09-23T16:10:26Z</dcterms:modified>
  <cp:revision>87</cp:revision>
  <dc:subject/>
  <dc:title>PowerPoint Presentation</dc:title>
</cp:coreProperties>
</file>